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7D8E-4403-48C9-B4C7-EF73D7091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360" y="572040"/>
            <a:ext cx="845820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88534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360" y="4555440"/>
            <a:ext cx="88534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8B81-50F7-4E55-AFCE-7A9CE34A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360" y="572040"/>
            <a:ext cx="845820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360" y="4555440"/>
            <a:ext cx="4320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7080" y="4555440"/>
            <a:ext cx="4320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E65C-285C-4DC5-9A1C-5B92D4138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360" y="572040"/>
            <a:ext cx="845820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28504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3760" y="1949040"/>
            <a:ext cx="28504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07160" y="1949040"/>
            <a:ext cx="28504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360" y="4555440"/>
            <a:ext cx="28504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3760" y="4555440"/>
            <a:ext cx="28504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07160" y="4555440"/>
            <a:ext cx="28504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EEEA-BB8B-445D-A0F6-1241E3088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9CEE-5BC6-4B62-A1F3-39FF84A13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0360" y="572040"/>
            <a:ext cx="845820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20360" y="1949040"/>
            <a:ext cx="8853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2720" indent="0" algn="ctr">
              <a:lnSpc>
                <a:spcPct val="93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E2D1-9DB4-4B97-9CFF-D0DDF4DF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0360" y="572040"/>
            <a:ext cx="845820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8853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5AEA4-43C4-4F2F-8588-EBD4944E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0360" y="572040"/>
            <a:ext cx="845820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2F78-ED60-4B6D-8A52-C8F1BDFA2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0360" y="572040"/>
            <a:ext cx="845820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EBCD-8A8C-4AA1-91EA-3CFD1057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20360" y="572040"/>
            <a:ext cx="8458200" cy="57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2720" indent="-342720" algn="ctr">
              <a:lnSpc>
                <a:spcPct val="93000"/>
              </a:lnSpc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FC889-77C8-4171-ABA4-7A163B45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0360" y="572040"/>
            <a:ext cx="845820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20360" y="4555440"/>
            <a:ext cx="4320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8CF7C-2CA9-4EEC-93DD-A66FF423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360" y="572040"/>
            <a:ext cx="845820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360" y="1949040"/>
            <a:ext cx="8853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2720" indent="0" algn="ctr">
              <a:lnSpc>
                <a:spcPct val="93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B625-B5E1-4667-AFFF-CF0BF0F0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0360" y="572040"/>
            <a:ext cx="845820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57080" y="4555440"/>
            <a:ext cx="4320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021E-A543-4771-B766-565B477B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0360" y="572040"/>
            <a:ext cx="845820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20360" y="4555440"/>
            <a:ext cx="88534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5DAC-0122-4ED1-A02B-BE279635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0360" y="572040"/>
            <a:ext cx="845820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88534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20360" y="4555440"/>
            <a:ext cx="88534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6E676-3D4D-4335-8B31-22E2B30B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0360" y="572040"/>
            <a:ext cx="845820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0360" y="4555440"/>
            <a:ext cx="4320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57080" y="4555440"/>
            <a:ext cx="4320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01696-F46E-45DB-96DB-437497181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0360" y="572040"/>
            <a:ext cx="845820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28504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3760" y="1949040"/>
            <a:ext cx="28504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07160" y="1949040"/>
            <a:ext cx="28504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20360" y="4555440"/>
            <a:ext cx="28504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3760" y="4555440"/>
            <a:ext cx="28504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07160" y="4555440"/>
            <a:ext cx="28504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64C8-C003-479E-A638-35EFAC13A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360" y="572040"/>
            <a:ext cx="845820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8853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F3D5-9B47-4B7C-B13B-5363DCE4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360" y="572040"/>
            <a:ext cx="845820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F36C-58D0-40BF-80B3-F5664CA3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360" y="572040"/>
            <a:ext cx="845820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0704-92E9-4984-83A8-69FFBBB7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360" y="572040"/>
            <a:ext cx="8458200" cy="57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2720" indent="-342720" algn="ctr">
              <a:lnSpc>
                <a:spcPct val="93000"/>
              </a:lnSpc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78F6-771E-49B7-86F2-F12072D1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360" y="572040"/>
            <a:ext cx="845820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360" y="4555440"/>
            <a:ext cx="4320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0C5E-02B4-420F-A9F2-93099967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360" y="572040"/>
            <a:ext cx="845820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7080" y="4555440"/>
            <a:ext cx="4320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B3CD-3344-4216-B515-2FFC3392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360" y="572040"/>
            <a:ext cx="845820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360" y="4555440"/>
            <a:ext cx="88534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9D54-FAD9-48DB-8C5A-74390375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268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55520"/>
                <a:tab algn="l" pos="604800"/>
                <a:tab algn="l" pos="1054080"/>
                <a:tab algn="l" pos="1503360"/>
                <a:tab algn="l" pos="1952280"/>
                <a:tab algn="l" pos="2401560"/>
                <a:tab algn="l" pos="2850840"/>
                <a:tab algn="l" pos="3300120"/>
                <a:tab algn="l" pos="3749400"/>
                <a:tab algn="l" pos="4198680"/>
                <a:tab algn="l" pos="4647960"/>
                <a:tab algn="l" pos="5097240"/>
                <a:tab algn="l" pos="5546520"/>
                <a:tab algn="l" pos="599580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848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04480"/>
                <a:tab algn="l" pos="653760"/>
                <a:tab algn="l" pos="1103040"/>
                <a:tab algn="l" pos="1552320"/>
                <a:tab algn="l" pos="2001600"/>
                <a:tab algn="l" pos="2450880"/>
                <a:tab algn="l" pos="2900160"/>
                <a:tab algn="l" pos="334944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160"/>
                <a:tab algn="l" pos="8740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57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96560"/>
                <a:tab algn="l" pos="645840"/>
                <a:tab algn="l" pos="1095120"/>
                <a:tab algn="l" pos="1544400"/>
                <a:tab algn="l" pos="1993680"/>
                <a:tab algn="l" pos="2442960"/>
                <a:tab algn="l" pos="2892240"/>
                <a:tab algn="l" pos="3341520"/>
                <a:tab algn="l" pos="3790800"/>
                <a:tab algn="l" pos="4240080"/>
                <a:tab algn="l" pos="4689360"/>
                <a:tab algn="l" pos="5138640"/>
                <a:tab algn="l" pos="5587920"/>
                <a:tab algn="l" pos="6037200"/>
                <a:tab algn="l" pos="6486480"/>
                <a:tab algn="l" pos="6935760"/>
                <a:tab algn="l" pos="7385040"/>
                <a:tab algn="l" pos="7833960"/>
                <a:tab algn="l" pos="8283240"/>
                <a:tab algn="l" pos="8732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28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8640"/>
                <a:tab algn="l" pos="637920"/>
                <a:tab algn="l" pos="1087200"/>
                <a:tab algn="l" pos="1536480"/>
                <a:tab algn="l" pos="1985760"/>
                <a:tab algn="l" pos="243504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6760"/>
                <a:tab algn="l" pos="7826040"/>
                <a:tab algn="l" pos="8275320"/>
                <a:tab algn="l" pos="8724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28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8640"/>
                <a:tab algn="l" pos="637920"/>
                <a:tab algn="l" pos="1087200"/>
                <a:tab algn="l" pos="1536480"/>
                <a:tab algn="l" pos="1985760"/>
                <a:tab algn="l" pos="243504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6760"/>
                <a:tab algn="l" pos="7826040"/>
                <a:tab algn="l" pos="8275320"/>
                <a:tab algn="l" pos="8724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28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8640"/>
                <a:tab algn="l" pos="637920"/>
                <a:tab algn="l" pos="1087200"/>
                <a:tab algn="l" pos="1536480"/>
                <a:tab algn="l" pos="1985760"/>
                <a:tab algn="l" pos="243504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6760"/>
                <a:tab algn="l" pos="7826040"/>
                <a:tab algn="l" pos="8275320"/>
                <a:tab algn="l" pos="8724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C3C68F8-CF8D-4585-86E6-EAD60126F38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0360" y="572040"/>
            <a:ext cx="845820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0360" y="1949040"/>
            <a:ext cx="8853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268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55520"/>
                <a:tab algn="l" pos="604800"/>
                <a:tab algn="l" pos="1054080"/>
                <a:tab algn="l" pos="1503360"/>
                <a:tab algn="l" pos="1952280"/>
                <a:tab algn="l" pos="2401560"/>
                <a:tab algn="l" pos="2850840"/>
                <a:tab algn="l" pos="3300120"/>
                <a:tab algn="l" pos="3749400"/>
                <a:tab algn="l" pos="4198680"/>
                <a:tab algn="l" pos="4647960"/>
                <a:tab algn="l" pos="5097240"/>
                <a:tab algn="l" pos="5546520"/>
                <a:tab algn="l" pos="599580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848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04480"/>
                <a:tab algn="l" pos="653760"/>
                <a:tab algn="l" pos="1103040"/>
                <a:tab algn="l" pos="1552320"/>
                <a:tab algn="l" pos="2001600"/>
                <a:tab algn="l" pos="2450880"/>
                <a:tab algn="l" pos="2900160"/>
                <a:tab algn="l" pos="334944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160"/>
                <a:tab algn="l" pos="8740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57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96560"/>
                <a:tab algn="l" pos="645840"/>
                <a:tab algn="l" pos="1095120"/>
                <a:tab algn="l" pos="1544400"/>
                <a:tab algn="l" pos="1993680"/>
                <a:tab algn="l" pos="2442960"/>
                <a:tab algn="l" pos="2892240"/>
                <a:tab algn="l" pos="3341520"/>
                <a:tab algn="l" pos="3790800"/>
                <a:tab algn="l" pos="4240080"/>
                <a:tab algn="l" pos="4689360"/>
                <a:tab algn="l" pos="5138640"/>
                <a:tab algn="l" pos="5587920"/>
                <a:tab algn="l" pos="6037200"/>
                <a:tab algn="l" pos="6486480"/>
                <a:tab algn="l" pos="6935760"/>
                <a:tab algn="l" pos="7385040"/>
                <a:tab algn="l" pos="7833960"/>
                <a:tab algn="l" pos="8283240"/>
                <a:tab algn="l" pos="8732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28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8640"/>
                <a:tab algn="l" pos="637920"/>
                <a:tab algn="l" pos="1087200"/>
                <a:tab algn="l" pos="1536480"/>
                <a:tab algn="l" pos="1985760"/>
                <a:tab algn="l" pos="243504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6760"/>
                <a:tab algn="l" pos="7826040"/>
                <a:tab algn="l" pos="8275320"/>
                <a:tab algn="l" pos="8724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28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8640"/>
                <a:tab algn="l" pos="637920"/>
                <a:tab algn="l" pos="1087200"/>
                <a:tab algn="l" pos="1536480"/>
                <a:tab algn="l" pos="1985760"/>
                <a:tab algn="l" pos="243504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6760"/>
                <a:tab algn="l" pos="7826040"/>
                <a:tab algn="l" pos="8275320"/>
                <a:tab algn="l" pos="8724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28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8640"/>
                <a:tab algn="l" pos="637920"/>
                <a:tab algn="l" pos="1087200"/>
                <a:tab algn="l" pos="1536480"/>
                <a:tab algn="l" pos="1985760"/>
                <a:tab algn="l" pos="243504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6760"/>
                <a:tab algn="l" pos="7826040"/>
                <a:tab algn="l" pos="8275320"/>
                <a:tab algn="l" pos="8724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9640" y="6318360"/>
            <a:ext cx="2346480" cy="5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266640" y="6346800"/>
            <a:ext cx="3194280" cy="5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31000" y="6346800"/>
            <a:ext cx="2346480" cy="5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</a:pPr>
            <a:fld id="{74B75397-C019-44E1-89D1-498DC8A23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20720" y="684360"/>
            <a:ext cx="8459640" cy="62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Software Engineering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期末報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Multimedia Remote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B98570139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何欣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964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3.2 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8854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4000">
              <a:lnSpc>
                <a:spcPct val="93000"/>
              </a:lnSpc>
              <a:spcAft>
                <a:spcPts val="142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一般使用者文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操作手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4000">
              <a:lnSpc>
                <a:spcPct val="93000"/>
              </a:lnSpc>
              <a:spcAft>
                <a:spcPts val="142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r si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692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0"/>
                <a:tab algn="l" pos="155520"/>
                <a:tab algn="l" pos="604800"/>
                <a:tab algn="l" pos="1054080"/>
                <a:tab algn="l" pos="1503360"/>
                <a:tab algn="l" pos="1952280"/>
                <a:tab algn="l" pos="2401560"/>
                <a:tab algn="l" pos="2850840"/>
                <a:tab algn="l" pos="3300120"/>
                <a:tab algn="l" pos="3749400"/>
                <a:tab algn="l" pos="4198680"/>
                <a:tab algn="l" pos="4647960"/>
                <a:tab algn="l" pos="5097240"/>
                <a:tab algn="l" pos="5546520"/>
                <a:tab algn="l" pos="599580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管理文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系統管理及網路監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692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0"/>
                <a:tab algn="l" pos="155520"/>
                <a:tab algn="l" pos="604800"/>
                <a:tab algn="l" pos="1054080"/>
                <a:tab algn="l" pos="1503360"/>
                <a:tab algn="l" pos="1952280"/>
                <a:tab algn="l" pos="2401560"/>
                <a:tab algn="l" pos="2850840"/>
                <a:tab algn="l" pos="3300120"/>
                <a:tab algn="l" pos="3749400"/>
                <a:tab algn="l" pos="4198680"/>
                <a:tab algn="l" pos="4647960"/>
                <a:tab algn="l" pos="5097240"/>
                <a:tab algn="l" pos="5546520"/>
                <a:tab algn="l" pos="599580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應用程式文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系統架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964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3.3 Hardware consid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8854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4000">
              <a:lnSpc>
                <a:spcPct val="93000"/>
              </a:lnSpc>
              <a:spcAft>
                <a:spcPts val="142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 si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692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0"/>
                <a:tab algn="l" pos="155520"/>
                <a:tab algn="l" pos="604800"/>
                <a:tab algn="l" pos="1054080"/>
                <a:tab algn="l" pos="1503360"/>
                <a:tab algn="l" pos="1952280"/>
                <a:tab algn="l" pos="2401560"/>
                <a:tab algn="l" pos="2850840"/>
                <a:tab algn="l" pos="3300120"/>
                <a:tab algn="l" pos="3749400"/>
                <a:tab algn="l" pos="4198680"/>
                <a:tab algn="l" pos="4647960"/>
                <a:tab algn="l" pos="5097240"/>
                <a:tab algn="l" pos="5546520"/>
                <a:tab algn="l" pos="599580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一般電腦，沒有配備高規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692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0"/>
                <a:tab algn="l" pos="155520"/>
                <a:tab algn="l" pos="604800"/>
                <a:tab algn="l" pos="1054080"/>
                <a:tab algn="l" pos="1503360"/>
                <a:tab algn="l" pos="1952280"/>
                <a:tab algn="l" pos="2401560"/>
                <a:tab algn="l" pos="2850840"/>
                <a:tab algn="l" pos="3300120"/>
                <a:tab algn="l" pos="3749400"/>
                <a:tab algn="l" pos="4198680"/>
                <a:tab algn="l" pos="4647960"/>
                <a:tab algn="l" pos="5097240"/>
                <a:tab algn="l" pos="5546520"/>
                <a:tab algn="l" pos="599580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及高規格顯示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4000">
              <a:lnSpc>
                <a:spcPct val="93000"/>
              </a:lnSpc>
              <a:spcAft>
                <a:spcPts val="142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r si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6920" indent="-573120" algn="just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0"/>
                <a:tab algn="l" pos="155520"/>
                <a:tab algn="l" pos="604800"/>
                <a:tab algn="l" pos="1054080"/>
                <a:tab algn="l" pos="1503360"/>
                <a:tab algn="l" pos="1952280"/>
                <a:tab algn="l" pos="2401560"/>
                <a:tab algn="l" pos="2850840"/>
                <a:tab algn="l" pos="3300120"/>
                <a:tab algn="l" pos="3749400"/>
                <a:tab algn="l" pos="4198680"/>
                <a:tab algn="l" pos="4647960"/>
                <a:tab algn="l" pos="5097240"/>
                <a:tab algn="l" pos="5546520"/>
                <a:tab algn="l" pos="599580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高效能電腦，必須要能支援欲使用的軟體，及大量的網路連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4000">
              <a:lnSpc>
                <a:spcPct val="93000"/>
              </a:lnSpc>
              <a:spcAft>
                <a:spcPts val="142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足夠的網路頻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964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3.4 Performance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8854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4000">
              <a:lnSpc>
                <a:spcPct val="93000"/>
              </a:lnSpc>
              <a:spcAft>
                <a:spcPts val="142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MT"/>
                <a:ea typeface="ArialMT"/>
              </a:rPr>
              <a:t>本軟體以</a:t>
            </a:r>
            <a:r>
              <a:rPr b="0" lang="en-US" sz="3200" spc="-1" strike="noStrike">
                <a:solidFill>
                  <a:srgbClr val="000000"/>
                </a:solidFill>
                <a:latin typeface="ArialMT"/>
                <a:ea typeface="ArialMT"/>
              </a:rPr>
              <a:t>real-time</a:t>
            </a:r>
            <a:r>
              <a:rPr b="0" lang="zh-TW" sz="3200" spc="-1" strike="noStrike">
                <a:solidFill>
                  <a:srgbClr val="000000"/>
                </a:solidFill>
                <a:latin typeface="ArialMT"/>
                <a:ea typeface="ArialMT"/>
              </a:rPr>
              <a:t>的速度執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4000">
              <a:lnSpc>
                <a:spcPct val="93000"/>
              </a:lnSpc>
              <a:spcAft>
                <a:spcPts val="142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MT"/>
                <a:ea typeface="ArialMT"/>
              </a:rPr>
              <a:t>回傳的</a:t>
            </a:r>
            <a:r>
              <a:rPr b="0" lang="en-US" sz="3200" spc="-1" strike="noStrike">
                <a:solidFill>
                  <a:srgbClr val="000000"/>
                </a:solidFill>
                <a:latin typeface="ArialMT"/>
                <a:ea typeface="ArialMT"/>
              </a:rPr>
              <a:t>video</a:t>
            </a:r>
            <a:r>
              <a:rPr b="0" lang="zh-TW" sz="3200" spc="-1" strike="noStrike">
                <a:solidFill>
                  <a:srgbClr val="000000"/>
                </a:solidFill>
                <a:latin typeface="ArialMT"/>
                <a:ea typeface="ArialMT"/>
              </a:rPr>
              <a:t>以每秒</a:t>
            </a:r>
            <a:r>
              <a:rPr b="0" lang="en-US" sz="3200" spc="-1" strike="noStrike">
                <a:solidFill>
                  <a:srgbClr val="000000"/>
                </a:solidFill>
                <a:latin typeface="ArialMT"/>
                <a:ea typeface="ArialMT"/>
              </a:rPr>
              <a:t>24fps</a:t>
            </a:r>
            <a:r>
              <a:rPr b="0" lang="zh-TW" sz="3200" spc="-1" strike="noStrike">
                <a:solidFill>
                  <a:srgbClr val="000000"/>
                </a:solidFill>
                <a:latin typeface="ArialMT"/>
                <a:ea typeface="ArialMT"/>
              </a:rPr>
              <a:t>播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20360" y="552600"/>
            <a:ext cx="845964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3.5 Error handling and extreme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8854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4000">
              <a:lnSpc>
                <a:spcPct val="93000"/>
              </a:lnSpc>
              <a:spcAft>
                <a:spcPts val="142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果系統錯誤，系統會回傳錯誤訊息給使用者，並說明錯誤原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4000">
              <a:lnSpc>
                <a:spcPct val="93000"/>
              </a:lnSpc>
              <a:spcAft>
                <a:spcPts val="142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果網路斷線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r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會暫停使用者執行中的軟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964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3.6 System interf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8854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4000">
              <a:lnSpc>
                <a:spcPct val="93000"/>
              </a:lnSpc>
              <a:spcAft>
                <a:spcPts val="142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使用鍵盤，滑鼠及麥克風輸入控制數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4000">
              <a:lnSpc>
                <a:spcPct val="93000"/>
              </a:lnSpc>
              <a:spcAft>
                <a:spcPts val="142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使用螢幕，音響輸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eo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數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964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3.7 Quality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8854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4000">
              <a:lnSpc>
                <a:spcPct val="93000"/>
              </a:lnSpc>
              <a:spcAft>
                <a:spcPts val="142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網路頻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4000">
              <a:lnSpc>
                <a:spcPct val="93000"/>
              </a:lnSpc>
              <a:spcAft>
                <a:spcPts val="142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MT"/>
                <a:ea typeface="ArialMT"/>
              </a:rPr>
              <a:t>使用者的操作需與回傳的影像符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964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3.8 System modif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8854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4000">
              <a:lnSpc>
                <a:spcPct val="93000"/>
              </a:lnSpc>
              <a:spcAft>
                <a:spcPts val="142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當系統執行錯誤時，系統修正使用者的控制並回傳錯誤訊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4000">
              <a:lnSpc>
                <a:spcPct val="93000"/>
              </a:lnSpc>
              <a:spcAft>
                <a:spcPts val="142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對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deo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進行無失真壓縮，減少傳輸數據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964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3.9 Physical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8854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4000">
              <a:lnSpc>
                <a:spcPct val="93000"/>
              </a:lnSpc>
              <a:spcAft>
                <a:spcPts val="142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一般電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4000">
              <a:lnSpc>
                <a:spcPct val="93000"/>
              </a:lnSpc>
              <a:spcAft>
                <a:spcPts val="142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網路頻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4000">
              <a:lnSpc>
                <a:spcPct val="93000"/>
              </a:lnSpc>
              <a:spcAft>
                <a:spcPts val="142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高硬體規格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 side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電腦設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964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3.10 Security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8854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4000">
              <a:lnSpc>
                <a:spcPct val="93000"/>
              </a:lnSpc>
              <a:spcAft>
                <a:spcPts val="142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帳號認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: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必須確認是正確的使用者登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4000">
              <a:lnSpc>
                <a:spcPct val="93000"/>
              </a:lnSpc>
              <a:spcAft>
                <a:spcPts val="142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傳輸資料加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: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確保資料不會被第三方使用者解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4000">
              <a:lnSpc>
                <a:spcPct val="93000"/>
              </a:lnSpc>
              <a:spcAft>
                <a:spcPts val="142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伺服器安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: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確保使用者的個人資料隱私與安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20360" y="552600"/>
            <a:ext cx="845964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3.11 Resources and management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8854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4000">
              <a:lnSpc>
                <a:spcPct val="93000"/>
              </a:lnSpc>
              <a:spcAft>
                <a:spcPts val="142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每兩周備份一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4000">
              <a:lnSpc>
                <a:spcPct val="93000"/>
              </a:lnSpc>
              <a:spcAft>
                <a:spcPts val="142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系統管理員負責備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4000">
              <a:lnSpc>
                <a:spcPct val="93000"/>
              </a:lnSpc>
              <a:spcAft>
                <a:spcPts val="142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系統設計師負責更新程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4000">
              <a:lnSpc>
                <a:spcPct val="93000"/>
              </a:lnSpc>
              <a:spcAft>
                <a:spcPts val="142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系統管理員負責維持系統穩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964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8854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4000" algn="just">
              <a:lnSpc>
                <a:spcPct val="93000"/>
              </a:lnSpc>
              <a:spcAft>
                <a:spcPts val="142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你想玩一款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對系統硬體要求很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的遊戲，但你只有硬體設備普通或是對此遊戲不支援的操作平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inux OS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這時該怎麼辦？買一台新的電腦，或是有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其他選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4000">
              <a:lnSpc>
                <a:spcPct val="93000"/>
              </a:lnSpc>
              <a:spcAft>
                <a:spcPts val="142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使用一般效能的電腦透過網路在線上執行高系統要求的軟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20360" y="552600"/>
            <a:ext cx="845964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600"/>
                <a:tab algn="l" pos="1447560"/>
                <a:tab algn="l" pos="2171520"/>
                <a:tab algn="l" pos="2895480"/>
                <a:tab algn="l" pos="3619440"/>
                <a:tab algn="l" pos="4343400"/>
                <a:tab algn="l" pos="5067000"/>
                <a:tab algn="l" pos="5790960"/>
                <a:tab algn="l" pos="651492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160"/>
                <a:tab algn="l" pos="9883440"/>
                <a:tab algn="l" pos="10332720"/>
                <a:tab algn="l" pos="10782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aints (“Pseudo requirements”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8854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4000">
              <a:lnSpc>
                <a:spcPct val="93000"/>
              </a:lnSpc>
              <a:spcAft>
                <a:spcPts val="142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 side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程式可以在不同操作平台上執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4000">
              <a:lnSpc>
                <a:spcPct val="93000"/>
              </a:lnSpc>
              <a:spcAft>
                <a:spcPts val="142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需要連結網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20360" y="3297240"/>
            <a:ext cx="845964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600"/>
                <a:tab algn="l" pos="1447560"/>
                <a:tab algn="l" pos="2171520"/>
                <a:tab algn="l" pos="2895480"/>
                <a:tab algn="l" pos="3619440"/>
                <a:tab algn="l" pos="4343400"/>
                <a:tab algn="l" pos="5067000"/>
                <a:tab algn="l" pos="5790960"/>
                <a:tab algn="l" pos="651492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160"/>
                <a:tab algn="l" pos="9883440"/>
                <a:tab algn="l" pos="10332720"/>
                <a:tab algn="l" pos="10782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stem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964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5.1 Scena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885492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760">
              <a:lnSpc>
                <a:spcPct val="93000"/>
              </a:lnSpc>
              <a:spcAft>
                <a:spcPts val="142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ce want to play new game ''Battlefield 3'' which need high system requirements.  But new computer is too expensive to bu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09640" indent="-5673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0"/>
                <a:tab algn="l" pos="155520"/>
                <a:tab algn="l" pos="604800"/>
                <a:tab algn="l" pos="1054080"/>
                <a:tab algn="l" pos="1503360"/>
                <a:tab algn="l" pos="1952280"/>
                <a:tab algn="l" pos="2401560"/>
                <a:tab algn="l" pos="2850840"/>
                <a:tab algn="l" pos="3300120"/>
                <a:tab algn="l" pos="3749400"/>
                <a:tab algn="l" pos="4198680"/>
                <a:tab algn="l" pos="4647960"/>
                <a:tab algn="l" pos="5097240"/>
                <a:tab algn="l" pos="5546520"/>
                <a:tab algn="l" pos="599580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ed system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09640" indent="-5673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0"/>
                <a:tab algn="l" pos="155520"/>
                <a:tab algn="l" pos="604800"/>
                <a:tab algn="l" pos="1054080"/>
                <a:tab algn="l" pos="1503360"/>
                <a:tab algn="l" pos="1952280"/>
                <a:tab algn="l" pos="2401560"/>
                <a:tab algn="l" pos="2850840"/>
                <a:tab algn="l" pos="3300120"/>
                <a:tab algn="l" pos="3749400"/>
                <a:tab algn="l" pos="4198680"/>
                <a:tab algn="l" pos="4647960"/>
                <a:tab algn="l" pos="5097240"/>
                <a:tab algn="l" pos="5546520"/>
                <a:tab algn="l" pos="599580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作業系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Windows 7 64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位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09640" indent="-5673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0"/>
                <a:tab algn="l" pos="155520"/>
                <a:tab algn="l" pos="604800"/>
                <a:tab algn="l" pos="1054080"/>
                <a:tab algn="l" pos="1503360"/>
                <a:tab algn="l" pos="1952280"/>
                <a:tab algn="l" pos="2401560"/>
                <a:tab algn="l" pos="2850840"/>
                <a:tab algn="l" pos="3300120"/>
                <a:tab algn="l" pos="3749400"/>
                <a:tab algn="l" pos="4198680"/>
                <a:tab algn="l" pos="4647960"/>
                <a:tab algn="l" pos="5097240"/>
                <a:tab algn="l" pos="5546520"/>
                <a:tab algn="l" pos="599580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處理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四核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09640" indent="-5673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0"/>
                <a:tab algn="l" pos="155520"/>
                <a:tab algn="l" pos="604800"/>
                <a:tab algn="l" pos="1054080"/>
                <a:tab algn="l" pos="1503360"/>
                <a:tab algn="l" pos="1952280"/>
                <a:tab algn="l" pos="2401560"/>
                <a:tab algn="l" pos="2850840"/>
                <a:tab algn="l" pos="3300120"/>
                <a:tab algn="l" pos="3749400"/>
                <a:tab algn="l" pos="4198680"/>
                <a:tab algn="l" pos="4647960"/>
                <a:tab algn="l" pos="5097240"/>
                <a:tab algn="l" pos="5546520"/>
                <a:tab algn="l" pos="599580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記憶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4G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09640" indent="-5673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0"/>
                <a:tab algn="l" pos="155520"/>
                <a:tab algn="l" pos="604800"/>
                <a:tab algn="l" pos="1054080"/>
                <a:tab algn="l" pos="1503360"/>
                <a:tab algn="l" pos="1952280"/>
                <a:tab algn="l" pos="2401560"/>
                <a:tab algn="l" pos="2850840"/>
                <a:tab algn="l" pos="3300120"/>
                <a:tab algn="l" pos="3749400"/>
                <a:tab algn="l" pos="4198680"/>
                <a:tab algn="l" pos="4647960"/>
                <a:tab algn="l" pos="5097240"/>
                <a:tab algn="l" pos="5546520"/>
                <a:tab algn="l" pos="599580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可用硬碟空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20G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09640" indent="-5673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0"/>
                <a:tab algn="l" pos="155520"/>
                <a:tab algn="l" pos="604800"/>
                <a:tab algn="l" pos="1054080"/>
                <a:tab algn="l" pos="1503360"/>
                <a:tab algn="l" pos="1952280"/>
                <a:tab algn="l" pos="2401560"/>
                <a:tab algn="l" pos="2850840"/>
                <a:tab algn="l" pos="3300120"/>
                <a:tab algn="l" pos="3749400"/>
                <a:tab algn="l" pos="4198680"/>
                <a:tab algn="l" pos="4647960"/>
                <a:tab algn="l" pos="5097240"/>
                <a:tab algn="l" pos="5546520"/>
                <a:tab algn="l" pos="599580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繪圖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irectX 11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相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U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，具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24MB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deo RAM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，例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VIDIA GeForce GTX 5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964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5.1 Scenarios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8854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4000">
              <a:lnSpc>
                <a:spcPct val="93000"/>
              </a:lnSpc>
              <a:spcAft>
                <a:spcPts val="142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ice use her normal computer(having enough network bandwidth) download our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4000">
              <a:lnSpc>
                <a:spcPct val="93000"/>
              </a:lnSpc>
              <a:spcAft>
                <a:spcPts val="142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enter program enter her account and select ''Battlefield3''.  Server response her require.  Running ''Battlefield3''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4000">
              <a:lnSpc>
                <a:spcPct val="93000"/>
              </a:lnSpc>
              <a:spcAft>
                <a:spcPts val="142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control virtual game at client side.  Program response keyboard and mouse actions back to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4000">
              <a:lnSpc>
                <a:spcPct val="93000"/>
              </a:lnSpc>
              <a:spcAft>
                <a:spcPts val="142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server side,  server use control data to control physical game and send video type data back to client side for Ali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20360" y="3297240"/>
            <a:ext cx="845964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5.2 Use case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20360" y="572040"/>
            <a:ext cx="845820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8853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se n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268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55520"/>
                <a:tab algn="l" pos="604800"/>
                <a:tab algn="l" pos="1054080"/>
                <a:tab algn="l" pos="1503360"/>
                <a:tab algn="l" pos="1952280"/>
                <a:tab algn="l" pos="2401560"/>
                <a:tab algn="l" pos="2850840"/>
                <a:tab algn="l" pos="3300120"/>
                <a:tab algn="l" pos="3749400"/>
                <a:tab algn="l" pos="4198680"/>
                <a:tab algn="l" pos="4647960"/>
                <a:tab algn="l" pos="5097240"/>
                <a:tab algn="l" pos="5546520"/>
                <a:tab algn="l" pos="599580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軟體選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3000"/>
              </a:lnSpc>
              <a:spcAft>
                <a:spcPts val="1423"/>
              </a:spcAft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ipation act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268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55520"/>
                <a:tab algn="l" pos="604800"/>
                <a:tab algn="l" pos="1054080"/>
                <a:tab algn="l" pos="1503360"/>
                <a:tab algn="l" pos="1952280"/>
                <a:tab algn="l" pos="2401560"/>
                <a:tab algn="l" pos="2850840"/>
                <a:tab algn="l" pos="3300120"/>
                <a:tab algn="l" pos="3749400"/>
                <a:tab algn="l" pos="4198680"/>
                <a:tab algn="l" pos="4647960"/>
                <a:tab algn="l" pos="5097240"/>
                <a:tab algn="l" pos="5546520"/>
                <a:tab algn="l" pos="599580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使用者、系統、資料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3000"/>
              </a:lnSpc>
              <a:spcAft>
                <a:spcPts val="1423"/>
              </a:spcAft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y condi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268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55520"/>
                <a:tab algn="l" pos="604800"/>
                <a:tab algn="l" pos="1054080"/>
                <a:tab algn="l" pos="1503360"/>
                <a:tab algn="l" pos="1952280"/>
                <a:tab algn="l" pos="2401560"/>
                <a:tab algn="l" pos="2850840"/>
                <a:tab algn="l" pos="3300120"/>
                <a:tab algn="l" pos="3749400"/>
                <a:tab algn="l" pos="4198680"/>
                <a:tab algn="l" pos="4647960"/>
                <a:tab algn="l" pos="5097240"/>
                <a:tab algn="l" pos="5546520"/>
                <a:tab algn="l" pos="599580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使用者進入選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3000"/>
              </a:lnSpc>
              <a:spcAft>
                <a:spcPts val="1423"/>
              </a:spcAft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condi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268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55520"/>
                <a:tab algn="l" pos="604800"/>
                <a:tab algn="l" pos="1054080"/>
                <a:tab algn="l" pos="1503360"/>
                <a:tab algn="l" pos="1952280"/>
                <a:tab algn="l" pos="2401560"/>
                <a:tab algn="l" pos="2850840"/>
                <a:tab algn="l" pos="3300120"/>
                <a:tab algn="l" pos="3749400"/>
                <a:tab algn="l" pos="4198680"/>
                <a:tab algn="l" pos="4647960"/>
                <a:tab algn="l" pos="5097240"/>
                <a:tab algn="l" pos="5546520"/>
                <a:tab algn="l" pos="599580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當系統輸出訊息，使用者工作完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20360" y="572040"/>
            <a:ext cx="845820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8279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 of e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268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55520"/>
                <a:tab algn="l" pos="604800"/>
                <a:tab algn="l" pos="1054080"/>
                <a:tab algn="l" pos="1503360"/>
                <a:tab algn="l" pos="1952280"/>
                <a:tab algn="l" pos="2401560"/>
                <a:tab algn="l" pos="2850840"/>
                <a:tab algn="l" pos="3300120"/>
                <a:tab algn="l" pos="3749400"/>
                <a:tab algn="l" pos="4198680"/>
                <a:tab algn="l" pos="4647960"/>
                <a:tab algn="l" pos="5097240"/>
                <a:tab algn="l" pos="5546520"/>
                <a:tab algn="l" pos="599580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使用者進入選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268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55520"/>
                <a:tab algn="l" pos="604800"/>
                <a:tab algn="l" pos="1054080"/>
                <a:tab algn="l" pos="1503360"/>
                <a:tab algn="l" pos="1952280"/>
                <a:tab algn="l" pos="2401560"/>
                <a:tab algn="l" pos="2850840"/>
                <a:tab algn="l" pos="3300120"/>
                <a:tab algn="l" pos="3749400"/>
                <a:tab algn="l" pos="4198680"/>
                <a:tab algn="l" pos="4647960"/>
                <a:tab algn="l" pos="5097240"/>
                <a:tab algn="l" pos="5546520"/>
                <a:tab algn="l" pos="599580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選擇想執行的軟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268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55520"/>
                <a:tab algn="l" pos="604800"/>
                <a:tab algn="l" pos="1054080"/>
                <a:tab algn="l" pos="1503360"/>
                <a:tab algn="l" pos="1952280"/>
                <a:tab algn="l" pos="2401560"/>
                <a:tab algn="l" pos="2850840"/>
                <a:tab algn="l" pos="3300120"/>
                <a:tab algn="l" pos="3749400"/>
                <a:tab algn="l" pos="4198680"/>
                <a:tab algn="l" pos="4647960"/>
                <a:tab algn="l" pos="5097240"/>
                <a:tab algn="l" pos="5546520"/>
                <a:tab algn="l" pos="599580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系統根據選項回應相關訊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268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55520"/>
                <a:tab algn="l" pos="604800"/>
                <a:tab algn="l" pos="1054080"/>
                <a:tab algn="l" pos="1503360"/>
                <a:tab algn="l" pos="1952280"/>
                <a:tab algn="l" pos="2401560"/>
                <a:tab algn="l" pos="2850840"/>
                <a:tab algn="l" pos="3300120"/>
                <a:tab algn="l" pos="3749400"/>
                <a:tab algn="l" pos="4198680"/>
                <a:tab algn="l" pos="4647960"/>
                <a:tab algn="l" pos="5097240"/>
                <a:tab algn="l" pos="5546520"/>
                <a:tab algn="l" pos="599580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非使用者要求的動作時，重新執行一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20360" y="572040"/>
            <a:ext cx="8458200" cy="12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8459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2720" indent="0">
              <a:lnSpc>
                <a:spcPct val="93000"/>
              </a:lnSpc>
              <a:spcAft>
                <a:spcPts val="1423"/>
              </a:spcAft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268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55520"/>
                <a:tab algn="l" pos="604800"/>
                <a:tab algn="l" pos="1054080"/>
                <a:tab algn="l" pos="1503360"/>
                <a:tab algn="l" pos="1952280"/>
                <a:tab algn="l" pos="2401560"/>
                <a:tab algn="l" pos="2850840"/>
                <a:tab algn="l" pos="3300120"/>
                <a:tab algn="l" pos="3749400"/>
                <a:tab algn="l" pos="4198680"/>
                <a:tab algn="l" pos="4647960"/>
                <a:tab algn="l" pos="5097240"/>
                <a:tab algn="l" pos="5546520"/>
                <a:tab algn="l" pos="599580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使用者操作錯誤，系統拒絕動作並要求使用者重新輸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268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55520"/>
                <a:tab algn="l" pos="604800"/>
                <a:tab algn="l" pos="1054080"/>
                <a:tab algn="l" pos="1503360"/>
                <a:tab algn="l" pos="1952280"/>
                <a:tab algn="l" pos="2401560"/>
                <a:tab algn="l" pos="2850840"/>
                <a:tab algn="l" pos="3300120"/>
                <a:tab algn="l" pos="3749400"/>
                <a:tab algn="l" pos="4198680"/>
                <a:tab algn="l" pos="4647960"/>
                <a:tab algn="l" pos="5097240"/>
                <a:tab algn="l" pos="5546520"/>
                <a:tab algn="l" pos="599580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系統內部錯誤：系統自動修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2720" indent="0">
              <a:lnSpc>
                <a:spcPct val="93000"/>
              </a:lnSpc>
              <a:spcAft>
                <a:spcPts val="1423"/>
              </a:spcAft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requir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268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55520"/>
                <a:tab algn="l" pos="604800"/>
                <a:tab algn="l" pos="1054080"/>
                <a:tab algn="l" pos="1503360"/>
                <a:tab algn="l" pos="1952280"/>
                <a:tab algn="l" pos="2401560"/>
                <a:tab algn="l" pos="2850840"/>
                <a:tab algn="l" pos="3300120"/>
                <a:tab algn="l" pos="3749400"/>
                <a:tab algn="l" pos="4198680"/>
                <a:tab algn="l" pos="4647960"/>
                <a:tab algn="l" pos="5097240"/>
                <a:tab algn="l" pos="5546520"/>
                <a:tab algn="l" pos="599580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有連線網路的電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964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選擇軟體使用案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870120" y="1800360"/>
            <a:ext cx="812952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0360" y="3476160"/>
            <a:ext cx="8459640" cy="10245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5.3 Object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964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Current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8854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4000">
              <a:lnSpc>
                <a:spcPct val="93000"/>
              </a:lnSpc>
              <a:spcAft>
                <a:spcPts val="142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media Remote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4000">
              <a:lnSpc>
                <a:spcPct val="93000"/>
              </a:lnSpc>
              <a:spcAft>
                <a:spcPts val="142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電腦連線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電腦並且控制系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964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5.3.1 Data diction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720720" y="1949400"/>
          <a:ext cx="8459280" cy="2112120"/>
        </p:xfrm>
        <a:graphic>
          <a:graphicData uri="http://schemas.openxmlformats.org/drawingml/2006/table">
            <a:tbl>
              <a:tblPr/>
              <a:tblGrid>
                <a:gridCol w="3317760"/>
                <a:gridCol w="5141880"/>
              </a:tblGrid>
              <a:tr h="4222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8920"/>
                          <a:tab algn="l" pos="898200"/>
                          <a:tab algn="l" pos="1347480"/>
                          <a:tab algn="l" pos="1796760"/>
                          <a:tab algn="l" pos="2246040"/>
                          <a:tab algn="l" pos="2695320"/>
                          <a:tab algn="l" pos="3144600"/>
                          <a:tab algn="l" pos="3593880"/>
                          <a:tab algn="l" pos="4043160"/>
                          <a:tab algn="l" pos="449244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欄位名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8920"/>
                          <a:tab algn="l" pos="898200"/>
                          <a:tab algn="l" pos="1347480"/>
                          <a:tab algn="l" pos="1796760"/>
                          <a:tab algn="l" pos="2246040"/>
                          <a:tab algn="l" pos="2695320"/>
                          <a:tab algn="l" pos="3144600"/>
                          <a:tab algn="l" pos="3593880"/>
                          <a:tab algn="l" pos="4043160"/>
                          <a:tab algn="l" pos="449244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型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4219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8920"/>
                          <a:tab algn="l" pos="898200"/>
                          <a:tab algn="l" pos="1347480"/>
                          <a:tab algn="l" pos="1796760"/>
                          <a:tab algn="l" pos="2246040"/>
                          <a:tab algn="l" pos="2695320"/>
                          <a:tab algn="l" pos="3144600"/>
                          <a:tab algn="l" pos="3593880"/>
                          <a:tab algn="l" pos="4043160"/>
                          <a:tab algn="l" pos="449244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ftware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8920"/>
                          <a:tab algn="l" pos="898200"/>
                          <a:tab algn="l" pos="1347480"/>
                          <a:tab algn="l" pos="1796760"/>
                          <a:tab algn="l" pos="2246040"/>
                          <a:tab algn="l" pos="2695320"/>
                          <a:tab algn="l" pos="3144600"/>
                          <a:tab algn="l" pos="3593880"/>
                          <a:tab algn="l" pos="4043160"/>
                          <a:tab algn="l" pos="449244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4222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8920"/>
                          <a:tab algn="l" pos="898200"/>
                          <a:tab algn="l" pos="1347480"/>
                          <a:tab algn="l" pos="1796760"/>
                          <a:tab algn="l" pos="2246040"/>
                          <a:tab algn="l" pos="2695320"/>
                          <a:tab algn="l" pos="3144600"/>
                          <a:tab algn="l" pos="3593880"/>
                          <a:tab algn="l" pos="4043160"/>
                          <a:tab algn="l" pos="449244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w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8920"/>
                          <a:tab algn="l" pos="898200"/>
                          <a:tab algn="l" pos="1347480"/>
                          <a:tab algn="l" pos="1796760"/>
                          <a:tab algn="l" pos="2246040"/>
                          <a:tab algn="l" pos="2695320"/>
                          <a:tab algn="l" pos="3144600"/>
                          <a:tab algn="l" pos="3593880"/>
                          <a:tab algn="l" pos="4043160"/>
                          <a:tab algn="l" pos="449244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4219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8920"/>
                          <a:tab algn="l" pos="898200"/>
                          <a:tab algn="l" pos="1347480"/>
                          <a:tab algn="l" pos="1796760"/>
                          <a:tab algn="l" pos="2246040"/>
                          <a:tab algn="l" pos="2695320"/>
                          <a:tab algn="l" pos="3144600"/>
                          <a:tab algn="l" pos="3593880"/>
                          <a:tab algn="l" pos="4043160"/>
                          <a:tab algn="l" pos="449244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ftware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8920"/>
                          <a:tab algn="l" pos="898200"/>
                          <a:tab algn="l" pos="1347480"/>
                          <a:tab algn="l" pos="1796760"/>
                          <a:tab algn="l" pos="2246040"/>
                          <a:tab algn="l" pos="2695320"/>
                          <a:tab algn="l" pos="3144600"/>
                          <a:tab algn="l" pos="3593880"/>
                          <a:tab algn="l" pos="4043160"/>
                          <a:tab algn="l" pos="449244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4237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8920"/>
                          <a:tab algn="l" pos="898200"/>
                          <a:tab algn="l" pos="1347480"/>
                          <a:tab algn="l" pos="1796760"/>
                          <a:tab algn="l" pos="2246040"/>
                          <a:tab algn="l" pos="2695320"/>
                          <a:tab algn="l" pos="3144600"/>
                          <a:tab algn="l" pos="3593880"/>
                          <a:tab algn="l" pos="4043160"/>
                          <a:tab algn="l" pos="449244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8920"/>
                          <a:tab algn="l" pos="898200"/>
                          <a:tab algn="l" pos="1347480"/>
                          <a:tab algn="l" pos="1796760"/>
                          <a:tab algn="l" pos="2246040"/>
                          <a:tab algn="l" pos="2695320"/>
                          <a:tab algn="l" pos="3144600"/>
                          <a:tab algn="l" pos="3593880"/>
                          <a:tab algn="l" pos="4043160"/>
                          <a:tab algn="l" pos="449244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964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5.3.2 Class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079640" y="1952640"/>
            <a:ext cx="7740360" cy="48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964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5.4 Dynamic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35040" y="2205000"/>
            <a:ext cx="872496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964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5.5 Us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944000" y="2844000"/>
            <a:ext cx="6336720" cy="32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964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Gloss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8854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4000">
              <a:lnSpc>
                <a:spcPct val="93000"/>
              </a:lnSpc>
              <a:spcAft>
                <a:spcPts val="142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端：這裡是指使用者的電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4000">
              <a:lnSpc>
                <a:spcPct val="93000"/>
              </a:lnSpc>
              <a:spcAft>
                <a:spcPts val="142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r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端：這裡是指系統主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4000">
              <a:lnSpc>
                <a:spcPct val="93000"/>
              </a:lnSpc>
              <a:spcAft>
                <a:spcPts val="142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一般電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這裡是指一般效能的電腦，硬體設備不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4000">
              <a:lnSpc>
                <a:spcPct val="93000"/>
              </a:lnSpc>
              <a:spcAft>
                <a:spcPts val="142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需求頻寬：執行程式所需最小網路頻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4000">
              <a:lnSpc>
                <a:spcPct val="93000"/>
              </a:lnSpc>
              <a:spcAft>
                <a:spcPts val="142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建議頻寬：執行程式所需網路頻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0360" y="3095640"/>
            <a:ext cx="845964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Proposed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964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600"/>
                <a:tab algn="l" pos="1447560"/>
                <a:tab algn="l" pos="2171520"/>
                <a:tab algn="l" pos="2895480"/>
                <a:tab algn="l" pos="3619440"/>
                <a:tab algn="l" pos="4343400"/>
                <a:tab algn="l" pos="5067000"/>
                <a:tab algn="l" pos="5790960"/>
                <a:tab algn="l" pos="651492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160"/>
                <a:tab algn="l" pos="9883440"/>
                <a:tab algn="l" pos="10332720"/>
                <a:tab algn="l" pos="10782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8854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4000">
              <a:lnSpc>
                <a:spcPct val="93000"/>
              </a:lnSpc>
              <a:spcAft>
                <a:spcPts val="142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 side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不需要擁有高階電腦或是買軟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4000">
              <a:lnSpc>
                <a:spcPct val="93000"/>
              </a:lnSpc>
              <a:spcAft>
                <a:spcPts val="142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r side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有使用者需要的軟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4000">
              <a:lnSpc>
                <a:spcPct val="93000"/>
              </a:lnSpc>
              <a:spcAft>
                <a:spcPts val="142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r side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收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 side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的控制數據，然後使用數據執行程式，將結果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eo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的方式送回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 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28560" y="2540160"/>
            <a:ext cx="3419640" cy="2339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119640" y="1692360"/>
            <a:ext cx="3238560" cy="3047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260360" y="5167440"/>
            <a:ext cx="2160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696000" y="5219640"/>
            <a:ext cx="2340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r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11640" y="3600360"/>
            <a:ext cx="1979640" cy="1800"/>
          </a:xfrm>
          <a:prstGeom prst="line">
            <a:avLst/>
          </a:prstGeom>
          <a:ln w="72000">
            <a:solidFill>
              <a:srgbClr val="dc2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2720" y="2879640"/>
            <a:ext cx="16192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959280" y="3600360"/>
            <a:ext cx="1982880" cy="1800"/>
          </a:xfrm>
          <a:prstGeom prst="line">
            <a:avLst/>
          </a:prstGeom>
          <a:ln w="72000">
            <a:solidFill>
              <a:srgbClr val="dc2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827520" y="158760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964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600"/>
                <a:tab algn="l" pos="1447560"/>
                <a:tab algn="l" pos="2171520"/>
                <a:tab algn="l" pos="2895480"/>
                <a:tab algn="l" pos="3619440"/>
                <a:tab algn="l" pos="4343400"/>
                <a:tab algn="l" pos="5067000"/>
                <a:tab algn="l" pos="5790960"/>
                <a:tab algn="l" pos="651492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160"/>
                <a:tab algn="l" pos="9883440"/>
                <a:tab algn="l" pos="10332720"/>
                <a:tab algn="l" pos="10782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8854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4000">
              <a:lnSpc>
                <a:spcPct val="93000"/>
              </a:lnSpc>
              <a:spcAft>
                <a:spcPts val="142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軟體可提供的功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6920" indent="-573120">
              <a:lnSpc>
                <a:spcPct val="93000"/>
              </a:lnSpc>
              <a:spcAft>
                <a:spcPts val="1423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0"/>
                <a:tab algn="l" pos="155520"/>
                <a:tab algn="l" pos="604800"/>
                <a:tab algn="l" pos="1054080"/>
                <a:tab algn="l" pos="1503360"/>
                <a:tab algn="l" pos="1952280"/>
                <a:tab algn="l" pos="2401560"/>
                <a:tab algn="l" pos="2850840"/>
                <a:tab algn="l" pos="3300120"/>
                <a:tab algn="l" pos="3749400"/>
                <a:tab algn="l" pos="4198680"/>
                <a:tab algn="l" pos="4647960"/>
                <a:tab algn="l" pos="5097240"/>
                <a:tab algn="l" pos="5546520"/>
                <a:tab algn="l" pos="599580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使用者可以線上使用軟體，不必擁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6920" indent="-573120">
              <a:lnSpc>
                <a:spcPct val="93000"/>
              </a:lnSpc>
              <a:spcAft>
                <a:spcPts val="1423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0"/>
                <a:tab algn="l" pos="155520"/>
                <a:tab algn="l" pos="604800"/>
                <a:tab algn="l" pos="1054080"/>
                <a:tab algn="l" pos="1503360"/>
                <a:tab algn="l" pos="1952280"/>
                <a:tab algn="l" pos="2401560"/>
                <a:tab algn="l" pos="2850840"/>
                <a:tab algn="l" pos="3300120"/>
                <a:tab algn="l" pos="3749400"/>
                <a:tab algn="l" pos="4198680"/>
                <a:tab algn="l" pos="4647960"/>
                <a:tab algn="l" pos="5097240"/>
                <a:tab algn="l" pos="5546520"/>
                <a:tab algn="l" pos="599580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玩遊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6920" indent="-573120">
              <a:lnSpc>
                <a:spcPct val="93000"/>
              </a:lnSpc>
              <a:spcAft>
                <a:spcPts val="1423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0"/>
                <a:tab algn="l" pos="155520"/>
                <a:tab algn="l" pos="604800"/>
                <a:tab algn="l" pos="1054080"/>
                <a:tab algn="l" pos="1503360"/>
                <a:tab algn="l" pos="1952280"/>
                <a:tab algn="l" pos="2401560"/>
                <a:tab algn="l" pos="2850840"/>
                <a:tab algn="l" pos="3300120"/>
                <a:tab algn="l" pos="3749400"/>
                <a:tab algn="l" pos="4198680"/>
                <a:tab algn="l" pos="4647960"/>
                <a:tab algn="l" pos="5097240"/>
                <a:tab algn="l" pos="5546520"/>
                <a:tab algn="l" pos="599580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編輯文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6920" indent="-573120">
              <a:lnSpc>
                <a:spcPct val="93000"/>
              </a:lnSpc>
              <a:spcAft>
                <a:spcPts val="1423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0"/>
                <a:tab algn="l" pos="155520"/>
                <a:tab algn="l" pos="604800"/>
                <a:tab algn="l" pos="1054080"/>
                <a:tab algn="l" pos="1503360"/>
                <a:tab algn="l" pos="1952280"/>
                <a:tab algn="l" pos="2401560"/>
                <a:tab algn="l" pos="2850840"/>
                <a:tab algn="l" pos="3300120"/>
                <a:tab algn="l" pos="3749400"/>
                <a:tab algn="l" pos="4198680"/>
                <a:tab algn="l" pos="4647960"/>
                <a:tab algn="l" pos="5097240"/>
                <a:tab algn="l" pos="5546520"/>
                <a:tab algn="l" pos="599580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欣賞影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0360" y="3239640"/>
            <a:ext cx="8459640" cy="10245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600"/>
                <a:tab algn="l" pos="1447560"/>
                <a:tab algn="l" pos="2171520"/>
                <a:tab algn="l" pos="2895480"/>
                <a:tab algn="l" pos="3619440"/>
                <a:tab algn="l" pos="4343400"/>
                <a:tab algn="l" pos="5067000"/>
                <a:tab algn="l" pos="5790960"/>
                <a:tab algn="l" pos="651492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160"/>
                <a:tab algn="l" pos="9883440"/>
                <a:tab algn="l" pos="10332720"/>
                <a:tab algn="l" pos="10782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functional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0360" y="552600"/>
            <a:ext cx="8459640" cy="12855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3.1 User interface and human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8854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4000">
              <a:lnSpc>
                <a:spcPct val="93000"/>
              </a:lnSpc>
              <a:spcAft>
                <a:spcPts val="142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一般使用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692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0"/>
                <a:tab algn="l" pos="155520"/>
                <a:tab algn="l" pos="604800"/>
                <a:tab algn="l" pos="1054080"/>
                <a:tab algn="l" pos="1503360"/>
                <a:tab algn="l" pos="1952280"/>
                <a:tab algn="l" pos="2401560"/>
                <a:tab algn="l" pos="2850840"/>
                <a:tab algn="l" pos="3300120"/>
                <a:tab algn="l" pos="3749400"/>
                <a:tab algn="l" pos="4198680"/>
                <a:tab algn="l" pos="4647960"/>
                <a:tab algn="l" pos="5097240"/>
                <a:tab algn="l" pos="5546520"/>
                <a:tab algn="l" pos="599580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程式可以在不同的操作平台執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692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0"/>
                <a:tab algn="l" pos="155520"/>
                <a:tab algn="l" pos="604800"/>
                <a:tab algn="l" pos="1054080"/>
                <a:tab algn="l" pos="1503360"/>
                <a:tab algn="l" pos="1952280"/>
                <a:tab algn="l" pos="2401560"/>
                <a:tab algn="l" pos="2850840"/>
                <a:tab algn="l" pos="3300120"/>
                <a:tab algn="l" pos="3749400"/>
                <a:tab algn="l" pos="4198680"/>
                <a:tab algn="l" pos="4647960"/>
                <a:tab algn="l" pos="5097240"/>
                <a:tab algn="l" pos="5546520"/>
                <a:tab algn="l" pos="599580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不需要訓練即可使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2692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0"/>
                <a:tab algn="l" pos="155520"/>
                <a:tab algn="l" pos="604800"/>
                <a:tab algn="l" pos="1054080"/>
                <a:tab algn="l" pos="1503360"/>
                <a:tab algn="l" pos="1952280"/>
                <a:tab algn="l" pos="2401560"/>
                <a:tab algn="l" pos="2850840"/>
                <a:tab algn="l" pos="3300120"/>
                <a:tab algn="l" pos="3749400"/>
                <a:tab algn="l" pos="4198680"/>
                <a:tab algn="l" pos="4647960"/>
                <a:tab algn="l" pos="5097240"/>
                <a:tab algn="l" pos="5546520"/>
                <a:tab algn="l" pos="599580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使用者不需考慮欲使用的軟體如何安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4000">
              <a:lnSpc>
                <a:spcPct val="93000"/>
              </a:lnSpc>
              <a:spcAft>
                <a:spcPts val="142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 side: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一般電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4000">
              <a:lnSpc>
                <a:spcPct val="93000"/>
              </a:lnSpc>
              <a:spcAft>
                <a:spcPts val="1423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r side: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工作站級電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7:17:13Z</dcterms:created>
  <dc:creator/>
  <dc:description/>
  <dc:language>en-US</dc:language>
  <cp:lastModifiedBy/>
  <dcterms:modified xsi:type="dcterms:W3CDTF">2012-01-11T15:30:49Z</dcterms:modified>
  <cp:revision>70</cp:revision>
  <dc:subject/>
  <dc:title/>
</cp:coreProperties>
</file>